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8C9FB-CDBB-4DA0-B5E2-B3816F18CE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95271-775E-4466-B617-9975E9000D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C3FEC-D095-41D1-896A-C5E02179D0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CCDBB-A3DA-41E5-B94C-1B93A55A70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F3614-7781-4606-B487-08520BDE33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08CD7-8535-494B-A357-111A6A2C0A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8F4BA-F152-425B-9A3D-7B5B5F858B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A44D3-C161-4D4F-808B-09803ECFA7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36864-B1BF-4A34-BA2D-921D7E92EF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22067-9C19-44C8-981D-8E7EB774C9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CDE8A-7D4E-45F8-BF81-C17E6A0ABD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7B311-0361-4023-9A85-4C3821A83E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65E63-F8FA-4B3B-BF27-4C1CB36785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6B272-CD4D-496D-B31F-B37E8842E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C1661-B2EB-40BD-88A3-E98EC9458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5EC0F-096D-4EFF-8C3F-6A2832045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E3938-C794-4363-AEDC-010C3E322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BCA49-93ED-4888-AA99-9C40AE8C5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8FFDB-AEC3-4C7D-9D94-FAB25FC2C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7EF82-64C4-4461-B11A-8249D5CC3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9068E-6810-45D3-8EAD-DE9C3A6E1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AA819-15A0-4F3F-AE0C-5E6027974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FBB0D-B56B-4A65-B0FA-4B4EE7B85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DC96E-4BA1-49D0-B27E-EE6F94E23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D6024-FEAB-421A-8483-F555EDE01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D3DBA-3EA6-4E97-9E2C-02AB793823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d7d3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alibri Light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-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-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-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Box 5"/>
          <p:cNvSpPr/>
          <p:nvPr/>
        </p:nvSpPr>
        <p:spPr>
          <a:xfrm>
            <a:off x="3845520" y="798480"/>
            <a:ext cx="387504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28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alibri Light"/>
              </a:rPr>
              <a:t>11</a:t>
            </a:r>
            <a:endParaRPr b="0" lang="en-US" sz="9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1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1-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1-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Box 5"/>
          <p:cNvSpPr/>
          <p:nvPr/>
        </p:nvSpPr>
        <p:spPr>
          <a:xfrm>
            <a:off x="3845520" y="798480"/>
            <a:ext cx="387504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Calibri"/>
              </a:rPr>
              <a:t>12</a:t>
            </a:r>
            <a:endParaRPr b="0" lang="en-US" sz="28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Calibri Light"/>
              </a:rPr>
              <a:t>2</a:t>
            </a:r>
            <a:endParaRPr b="0" lang="en-US" sz="8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-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-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alibri Light"/>
              </a:rPr>
              <a:t>3</a:t>
            </a:r>
            <a:endParaRPr b="0" lang="en-US" sz="9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-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-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Box 5"/>
          <p:cNvSpPr/>
          <p:nvPr/>
        </p:nvSpPr>
        <p:spPr>
          <a:xfrm>
            <a:off x="4789080" y="747720"/>
            <a:ext cx="202788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28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5"/>
          <p:cNvSpPr/>
          <p:nvPr/>
        </p:nvSpPr>
        <p:spPr>
          <a:xfrm>
            <a:off x="4789080" y="747720"/>
            <a:ext cx="202788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28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alibri Light"/>
              </a:rPr>
              <a:t>6</a:t>
            </a:r>
            <a:endParaRPr b="0" lang="en-US" sz="9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6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6-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6-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Box 5"/>
          <p:cNvSpPr/>
          <p:nvPr/>
        </p:nvSpPr>
        <p:spPr>
          <a:xfrm>
            <a:off x="4789080" y="747720"/>
            <a:ext cx="202788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28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>
            <a:alpha val="7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alibri Light"/>
              </a:rPr>
              <a:t>8</a:t>
            </a:r>
            <a:endParaRPr b="0" lang="en-US" sz="9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8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8-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8-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Box 5"/>
          <p:cNvSpPr/>
          <p:nvPr/>
        </p:nvSpPr>
        <p:spPr>
          <a:xfrm>
            <a:off x="4789080" y="747720"/>
            <a:ext cx="202788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28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6-28T05:54:43Z</dcterms:created>
  <dc:creator>Foxit</dc:creator>
  <dc:description/>
  <dc:language>en-US</dc:language>
  <cp:lastModifiedBy>Lan Yu</cp:lastModifiedBy>
  <dcterms:modified xsi:type="dcterms:W3CDTF">2020-06-28T07:03:03Z</dcterms:modified>
  <cp:revision>2</cp:revision>
  <dc:subject/>
  <dc:title>PowerPoint Presentation</dc:title>
</cp:coreProperties>
</file>