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E2172-EB8F-45A8-9C07-5E970BE593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CEA06-B6CA-499C-931C-8B6F022597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07606-E503-4B5D-AFA7-6B6536FF0B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78580-8BF7-4F0E-BED1-C4207760DA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40003-AC0B-4F7F-8C30-15555E5DB9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57627-1EF4-4FFF-A3A6-6791332BF8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89209-8374-4293-9DA0-C25A1697F8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01520-445A-4481-B6A3-2F0CCF1141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A035C-DA14-4634-AA03-1244ABEA44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84E60-7BCC-4511-9891-2083728295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9E20A-B44C-4B54-BEF8-9086BE1B7A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FDD26-ED85-44FB-8FC8-02097DDDB3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0F453-065E-4AC4-9951-5D62E87680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0CA0C-ADE9-456D-8BC3-2DD620927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0C363-E9E1-4DC4-9563-DBEF2DFD5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B9E55-EE49-4385-92BA-416EC84AB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70EC6-A5BC-4DC2-A622-D92D83526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77CCA-6B8F-41AE-8A3D-A6BA39B6D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5EC3C-9A42-457F-BFBD-455B865EC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429E8-51A8-4020-AC62-7BA35B220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EEE1A-F98F-4BAF-A4E5-135A1DC38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821FD-062C-430A-9D8D-5524E98DA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CEFE4-E882-47A1-87BB-3E420655C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FBD2C-B5FB-4FC4-8059-6FBDB5F22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498F7-9665-4529-8C2C-308D691FD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2A8F6-0C1A-4C9D-B80C-4376660AB1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d7d3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alibri Light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-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-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-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Box 5"/>
          <p:cNvSpPr/>
          <p:nvPr/>
        </p:nvSpPr>
        <p:spPr>
          <a:xfrm>
            <a:off x="3845520" y="798480"/>
            <a:ext cx="387504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28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alibri Light"/>
              </a:rPr>
              <a:t>11</a:t>
            </a:r>
            <a:endParaRPr b="0" lang="en-US" sz="9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1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1-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1-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Box 5"/>
          <p:cNvSpPr/>
          <p:nvPr/>
        </p:nvSpPr>
        <p:spPr>
          <a:xfrm>
            <a:off x="3845520" y="798480"/>
            <a:ext cx="387504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Calibri"/>
              </a:rPr>
              <a:t>12</a:t>
            </a:r>
            <a:endParaRPr b="0" lang="en-US" sz="28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Calibri Light"/>
              </a:rPr>
              <a:t>2</a:t>
            </a:r>
            <a:endParaRPr b="0" lang="en-US" sz="8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-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-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alibri Light"/>
              </a:rPr>
              <a:t>3</a:t>
            </a:r>
            <a:endParaRPr b="0" lang="en-US" sz="9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-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-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Box 5"/>
          <p:cNvSpPr/>
          <p:nvPr/>
        </p:nvSpPr>
        <p:spPr>
          <a:xfrm>
            <a:off x="4789080" y="747720"/>
            <a:ext cx="202788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28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5"/>
          <p:cNvSpPr/>
          <p:nvPr/>
        </p:nvSpPr>
        <p:spPr>
          <a:xfrm>
            <a:off x="4789080" y="747720"/>
            <a:ext cx="202788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28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alibri Light"/>
              </a:rPr>
              <a:t>6</a:t>
            </a:r>
            <a:endParaRPr b="0" lang="en-US" sz="9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6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6-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6-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Box 5"/>
          <p:cNvSpPr/>
          <p:nvPr/>
        </p:nvSpPr>
        <p:spPr>
          <a:xfrm>
            <a:off x="4789080" y="747720"/>
            <a:ext cx="202788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28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>
            <a:alpha val="7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alibri Light"/>
              </a:rPr>
              <a:t>8</a:t>
            </a:r>
            <a:endParaRPr b="0" lang="en-US" sz="9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8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8-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8-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Box 5"/>
          <p:cNvSpPr/>
          <p:nvPr/>
        </p:nvSpPr>
        <p:spPr>
          <a:xfrm>
            <a:off x="4789080" y="747720"/>
            <a:ext cx="202788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28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6-28T05:54:43Z</dcterms:created>
  <dc:creator>Foxit</dc:creator>
  <dc:description/>
  <dc:language>en-US</dc:language>
  <cp:lastModifiedBy>Lan Yu</cp:lastModifiedBy>
  <dcterms:modified xsi:type="dcterms:W3CDTF">2020-06-28T07:03:03Z</dcterms:modified>
  <cp:revision>2</cp:revision>
  <dc:subject/>
  <dc:title>PowerPoint Presentation</dc:title>
</cp:coreProperties>
</file>