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BDD59-D8C4-4BE4-8509-5C0D677CCE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72D54-8E45-4BA8-A615-74DAF6958E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C2C26-A654-492F-9984-3DE18DBDE5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23A09-2111-4ADA-BE3D-E631F64323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94DF9-3778-423B-814F-212632BDEB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E5A3A-2067-4DB9-9499-DE9191C6F0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22DF9-CB42-4110-9B47-EFC0382DD6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6993D-494B-4371-BBE6-5B8A562E02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4DC98-E6DF-4F86-97FF-506B40326C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1F074-A6B2-44C0-879A-DD818ED0EC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B78D3-1C9F-4751-A15E-98AF953120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688AC-18B5-4D4A-941E-765D0F83A6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8FD12-9029-413C-9327-12F704B8FC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728C-86E2-478A-B5F6-AB55C64EE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26A6-41CA-4910-A991-72003B23D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AD23-D343-44D5-AEDD-53CBAD286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8100-ACC6-4E36-A68B-00AC438B3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3043-CDAE-45B8-94A7-29E00678A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2567-C90F-4A44-A908-AC5C0A598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02C5-AC60-4161-844E-EA57B13DA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678A-FBC4-4676-807F-D9B73055D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A69E-143C-45BF-ACA5-F2A574F06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6D90-7AEE-4FBB-8E88-60D073257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C1F0-3FE2-44C0-86DE-9EBCB8DDF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CF1B-FBB1-4852-A562-62BFCE14C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F578E-D871-4318-B77F-8C3558FA44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7d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 Light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28T05:54:43Z</dcterms:created>
  <dc:creator>Foxit</dc:creator>
  <dc:description/>
  <dc:language>en-US</dc:language>
  <cp:lastModifiedBy>Lan Yu</cp:lastModifiedBy>
  <dcterms:modified xsi:type="dcterms:W3CDTF">2020-06-28T07:03:03Z</dcterms:modified>
  <cp:revision>2</cp:revision>
  <dc:subject/>
  <dc:title>PowerPoint Presentation</dc:title>
</cp:coreProperties>
</file>