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849F-8DA0-42F1-ADC4-7989A4C9D6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3629-FEE2-4678-B67D-D25F8BA3D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CF3B4-A926-441B-8D2E-B35BC94D26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B843C-CA3B-4C23-A1AA-5665471B22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853F-9636-467D-BAC1-90B0D5DAF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84E1-4E61-4FAC-86F1-F3B0F1AFF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5A117-3B77-436A-AD6E-C0D98024B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ACB5-2B78-4EB5-99FB-1FDD4ACCE9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7A32-88AA-4E07-9488-6B449DEB26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B6D5-10E7-45B3-BA89-03D102F4D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68B7-A2D0-4876-BF92-858021CBD7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6B79-78C9-4F8E-98AA-BD78EDE0EA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for Slide-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75B3-953B-401C-B263-2AD92FACEE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9B1-FBD9-47AE-BD56-8D92A25B0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E09F-E3DA-415D-9F1A-2006ECE7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E45-7981-4E5B-B66E-5168A779C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CFCF-36D2-493E-B175-F7C2D126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AE4-650F-4672-AAD1-D96B25C5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0A9B-6A44-4A3D-B651-9C6870FB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73E-6606-4CC2-BB1B-59281045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5BF-627E-4E7C-9574-D0FECED49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BAD-B531-4D82-B0FB-E1259C93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D89-B142-4282-A77F-20EAACCA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1E10-2AC2-4E95-A837-EF52C14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785E-8A77-4382-88EF-0C426FB6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AFDE-3F14-4A03-8D84-17DF13BE3F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7d3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-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11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1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5"/>
          <p:cNvSpPr/>
          <p:nvPr/>
        </p:nvSpPr>
        <p:spPr>
          <a:xfrm>
            <a:off x="3845520" y="798480"/>
            <a:ext cx="387504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12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 Light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3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0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 Light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8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5"/>
          <p:cNvSpPr/>
          <p:nvPr/>
        </p:nvSpPr>
        <p:spPr>
          <a:xfrm>
            <a:off x="4789080" y="747720"/>
            <a:ext cx="202788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7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28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6-28T05:54:43Z</dcterms:created>
  <dc:creator>Foxit</dc:creator>
  <dc:description/>
  <dc:language>en-US</dc:language>
  <cp:lastModifiedBy>Lan Yu</cp:lastModifiedBy>
  <dcterms:modified xsi:type="dcterms:W3CDTF">2020-06-28T07:03:03Z</dcterms:modified>
  <cp:revision>2</cp:revision>
  <dc:subject/>
  <dc:title>PowerPoint Presentation</dc:title>
</cp:coreProperties>
</file>