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D5CE9-4694-485C-A960-AE6796023B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4F7A3-1C16-40D7-B2B6-3213AFA6EF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A77C6-2943-479E-915C-947F516E8F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98A26-F117-48CB-928C-3C8E80E99D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A0F8-9941-4AF3-8442-317FC2DB80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E1237-3996-4C34-857F-BCFF4148C7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CF66E-CF8F-4DF2-B5A6-6B2378CA69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4592F-86BC-4B12-A599-DA3FD4174B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41069-1DC2-4EFC-99AE-CC946BCDB6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C7D8D-4C37-4456-8873-51D207F1FC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EB43D-B68C-43DB-887F-15F298B121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F8A74-BCE8-417C-875C-0A3D852DA0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4B102-F4ED-4437-A8B0-C1043355B0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42BE-123F-465A-8D9A-E04BA88F1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5652-FAD5-43E6-980A-FF5030930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6BDF-96F8-4B0A-A489-26294E42F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2D09-62D1-4174-B8A3-BFD2F7647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778E-A11F-4A20-B03A-24D46ADBD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0232-01A0-49D9-B98C-559600679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4508-3B19-40E0-95C5-DCB29A882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F9F2-3130-44A4-85F4-D4E9B2CA6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71FC-B686-460A-802C-BD34FD531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2F07-80C9-4535-AF6B-B4235E6F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2B62-26A3-4F8B-9A07-AF783E32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D965-2334-45E7-9E9E-52A5BAA5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0D488-0544-4656-9B6B-1364CB2909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7d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 Light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28T05:54:43Z</dcterms:created>
  <dc:creator>Foxit</dc:creator>
  <dc:description/>
  <dc:language>en-US</dc:language>
  <cp:lastModifiedBy>Lan Yu</cp:lastModifiedBy>
  <dcterms:modified xsi:type="dcterms:W3CDTF">2020-06-28T07:03:03Z</dcterms:modified>
  <cp:revision>2</cp:revision>
  <dc:subject/>
  <dc:title>PowerPoint Presentation</dc:title>
</cp:coreProperties>
</file>