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DD8D4-5C64-4996-890F-74F1ADEA93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2771C-3634-4990-B357-18E2170876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96856-57DD-4FA2-AE0E-9A929BB32C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09087-E040-4886-AC7E-60C4BA2D8D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0AB9F-7BFE-4068-9A7D-EB20694336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3FA93-6814-4CC3-96EE-DD377EB78D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F2961-9C71-4164-9FF0-278DD9EAD2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AF99C-34C6-44F8-BC60-1196258ED9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7BC44-C291-4613-B5CB-5E5ECA3922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BD1CF-511A-4E79-B48D-610188807A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CE26A-A302-4344-98B8-AFF53EE9AB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EC76B-781D-4594-9DD3-C54242271D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1B916-FC6A-4475-B2AB-21AE71090A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0F31-A05F-4556-8A15-8E0F95C69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139C-7CF2-431B-B5D0-93F612736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0F82-E415-44C3-A95C-571B06D7C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A17D-95BA-4086-933D-7B5ECB97E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D0D9-B3A7-4204-A8F5-62635A609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34CE-08E5-4734-9144-AD46B966B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28A1-EB99-437D-8C3A-136E8FFC9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525F-0977-4A50-A18D-1824AFDCB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BFCF-B27E-404A-B5C8-67F157428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4702-815F-4A25-B3DE-72259A8F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9464-09AC-47C2-8C34-9E51B6BD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4527-7F38-4DEC-99EC-241524D4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ABA17-77E1-4CE2-A074-5FABD5795D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7d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 Light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28T05:54:43Z</dcterms:created>
  <dc:creator>Foxit</dc:creator>
  <dc:description/>
  <dc:language>en-US</dc:language>
  <cp:lastModifiedBy>Lan Yu</cp:lastModifiedBy>
  <dcterms:modified xsi:type="dcterms:W3CDTF">2020-06-28T07:03:03Z</dcterms:modified>
  <cp:revision>2</cp:revision>
  <dc:subject/>
  <dc:title>PowerPoint Presentation</dc:title>
</cp:coreProperties>
</file>