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4BEBA-A105-47F8-B7FF-F4533FADD3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8FFBD-0AEF-451A-A11E-78AC819E8B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081EF-1009-49AA-B87A-70CC20E7F3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33178-D156-49D1-8E82-0EDC5067F9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0B7F1-D0F0-435D-8AAD-F1516BDCE8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8A181-5E87-4252-A665-DC310CE1A8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40BEF-99DE-419C-8CF2-2F0E470A24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802FC-5DDC-4D56-8B9E-ECFCDAC7AD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F8E09-8270-4512-8159-6186E26863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1DE88-8B60-41D2-A214-F77D604C17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7B8E7-3F35-4CDD-8E07-F5F7F0FB58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10F5C-5195-4861-830B-FC76FE56DC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8EF23-1491-4B8A-9943-666E8BE25B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2F36-8C31-406F-B8D7-E83E211D2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6518-CC0C-46DA-8BB1-AF1A385E5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79EB-4B72-4247-8F53-DA1292D1B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E6FF-0E5F-4074-8371-5A9FC9D4E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432A-6850-43B9-BEE3-65B34926E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AC71-69B4-4FA7-8A05-9494633BF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E197-4A7E-4B41-98D6-57486338E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7AFF-A9C6-4676-AFFC-DE0F8E699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B6D7-3EDF-495B-890E-AA62506A6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8337-1BE5-4541-ADA9-E8228C3B8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DC0F-E6E5-4BBB-83A8-5F2BF29B3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DC8C-CD1D-4F3F-A3C0-226D609C1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E738A-FBA7-4FE5-910B-F1862FBA74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7d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 Light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28T05:54:43Z</dcterms:created>
  <dc:creator>Foxit</dc:creator>
  <dc:description/>
  <dc:language>en-US</dc:language>
  <cp:lastModifiedBy>Lan Yu</cp:lastModifiedBy>
  <dcterms:modified xsi:type="dcterms:W3CDTF">2020-06-28T07:03:03Z</dcterms:modified>
  <cp:revision>2</cp:revision>
  <dc:subject/>
  <dc:title>PowerPoint Presentation</dc:title>
</cp:coreProperties>
</file>